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0.jpeg" ContentType="image/jpeg"/>
  <Override PartName="/ppt/media/image29.png" ContentType="image/png"/>
  <Override PartName="/ppt/media/image31.png" ContentType="image/png"/>
  <Override PartName="/ppt/media/image6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6CE-CF64-4328-A1FD-90CE90D6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6CC-690A-49FA-9264-2FE8253A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B34-2975-4459-AE7B-9F881F3F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70A-DF11-43D8-94A8-CCC04D4D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4C70-19E6-4598-821D-1D9CE757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56D5-70A7-4637-8108-CDB2305B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7FA1-76AD-43BE-A037-C85D5EA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BACE-1683-473A-9A4B-1AAFE577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C7F7-744F-48BA-85D7-7B15BBA8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0CAB-C74D-4FE0-BE6F-20A7B49B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2063-3A27-497A-9381-C781A60E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92C-85A3-45C6-8322-718BA51C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CF3E-687A-4697-A9DC-3CADE939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9788-6D16-4CD6-A04C-0FD109E8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DCFA-C2B8-4CE6-BF9A-D1231BA1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E615-D1FE-49D2-80ED-689C281D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A78C-E76C-48F5-9291-19C7CDCF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9AB-A911-4022-8747-A5957AD1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066-4606-4E39-8085-B4A7CB65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12F-078A-4431-A798-73D9BFB6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9B3-E6ED-4E97-A0B8-939AE710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00C-426F-40D1-8F66-34862A6B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B3C-A397-4FC4-8FC2-5C7A39B0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9CF-3156-497F-A464-E8621FF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10376532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FE20-8CCF-4250-BDD2-63AC41F39070}" type="slidenum"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27200" y="1062000"/>
            <a:ext cx="4600440" cy="3978360"/>
          </a:xfrm>
          <a:prstGeom prst="rect">
            <a:avLst/>
          </a:prstGeom>
          <a:solidFill>
            <a:srgbClr val="2f1e12"/>
          </a:solidFill>
          <a:ln w="0">
            <a:noFill/>
          </a:ln>
          <a:effectLst>
            <a:outerShdw dist="25318" dir="7190755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10376532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4796-EB30-4056-AEA1-3F8BDBA5FF50}" type="slidenum"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winchester_mystery_house_san_jose_ca.jpg"/>
          <p:cNvPicPr/>
          <p:nvPr/>
        </p:nvPicPr>
        <p:blipFill>
          <a:blip r:embed="rId1"/>
          <a:stretch/>
        </p:blipFill>
        <p:spPr>
          <a:xfrm>
            <a:off x="-15840" y="1219320"/>
            <a:ext cx="9159840" cy="5867280"/>
          </a:xfrm>
          <a:prstGeom prst="rect">
            <a:avLst/>
          </a:prstGeom>
          <a:ln w="0">
            <a:noFill/>
          </a:ln>
        </p:spPr>
      </p:pic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-85680" y="-384120"/>
            <a:ext cx="93088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320" y="761760"/>
            <a:ext cx="3581280" cy="609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6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Repeating number 13 theme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Chandelier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panes in many window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bathroom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steps on most staircases (one has 39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oors that open into walls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tairs that lead nowhere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indows that look into walls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698760" indent="-19656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698760" indent="-19656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474040" cy="96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843671INP.jpg"/>
          <p:cNvPicPr/>
          <p:nvPr/>
        </p:nvPicPr>
        <p:blipFill>
          <a:blip r:embed="rId2"/>
          <a:stretch/>
        </p:blipFill>
        <p:spPr>
          <a:xfrm>
            <a:off x="3733920" y="1523880"/>
            <a:ext cx="5392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4522680" y="-96840"/>
            <a:ext cx="4737240" cy="174960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6" descr="untitled.bmp"/>
          <p:cNvPicPr/>
          <p:nvPr/>
        </p:nvPicPr>
        <p:blipFill>
          <a:blip r:embed="rId2"/>
          <a:stretch/>
        </p:blipFill>
        <p:spPr>
          <a:xfrm>
            <a:off x="5486400" y="1486080"/>
            <a:ext cx="3581280" cy="537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untitled2.bmp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aibnet.gif"/>
          <p:cNvPicPr/>
          <p:nvPr/>
        </p:nvPicPr>
        <p:blipFill>
          <a:blip r:embed="rId4"/>
          <a:stretch/>
        </p:blipFill>
        <p:spPr>
          <a:xfrm>
            <a:off x="2590920" y="2666880"/>
            <a:ext cx="2798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5960" y="761760"/>
            <a:ext cx="4800600" cy="609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1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ollowing psychic’s instruction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eld seances (spirits “told” her how to build the next day)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trange design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anted to confuse spirits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asn’t a trained architect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lept in a different room every nigh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elieved if she stopped building, she would die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658080" indent="-1850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658080" indent="-1850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601120" cy="96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551ec41-1cca-4e5a-968a-2637082d2168.jpg"/>
          <p:cNvPicPr/>
          <p:nvPr/>
        </p:nvPicPr>
        <p:blipFill>
          <a:blip r:embed="rId2"/>
          <a:stretch/>
        </p:blipFill>
        <p:spPr>
          <a:xfrm>
            <a:off x="4762440" y="1066680"/>
            <a:ext cx="4381560" cy="2921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www.winchestermysteryhouse.com/wmhpress/Stairs.jpg"/>
          <p:cNvPicPr/>
          <p:nvPr/>
        </p:nvPicPr>
        <p:blipFill>
          <a:blip r:embed="rId3"/>
          <a:stretch/>
        </p:blipFill>
        <p:spPr>
          <a:xfrm>
            <a:off x="4737240" y="3971880"/>
            <a:ext cx="44067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960" y="761760"/>
            <a:ext cx="4800600" cy="609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9" name="Rectangle 3" descr=""/>
          <p:cNvPicPr/>
          <p:nvPr/>
        </p:nvPicPr>
        <p:blipFill>
          <a:blip r:embed="rId1"/>
          <a:stretch/>
        </p:blipFill>
        <p:spPr>
          <a:xfrm>
            <a:off x="298440" y="-85680"/>
            <a:ext cx="8474040" cy="963720"/>
          </a:xfrm>
          <a:prstGeom prst="rect">
            <a:avLst/>
          </a:prstGeom>
          <a:ln w="0">
            <a:noFill/>
          </a:ln>
        </p:spPr>
      </p:pic>
      <p:sp>
        <p:nvSpPr>
          <p:cNvPr id="120" name="Content Placeholder 2"/>
          <p:cNvSpPr/>
          <p:nvPr/>
        </p:nvSpPr>
        <p:spPr>
          <a:xfrm>
            <a:off x="228600" y="380880"/>
            <a:ext cx="312408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Earthquake in 1906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Top 3 stories collapsed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Sarah trapped in her roo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Convinced spirits were angry because house almost complete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1" name="Picture 2" descr="http://www.altereddimensions.net/images/places/WinchesterMysteryHouse1.gif"/>
          <p:cNvPicPr/>
          <p:nvPr/>
        </p:nvPicPr>
        <p:blipFill>
          <a:blip r:embed="rId2"/>
          <a:stretch/>
        </p:blipFill>
        <p:spPr>
          <a:xfrm>
            <a:off x="3578400" y="3276720"/>
            <a:ext cx="5565600" cy="3581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3581280" y="685800"/>
            <a:ext cx="556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Boarded up front 30 rooms of house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457200" indent="-272880">
              <a:lnSpc>
                <a:spcPct val="100000"/>
              </a:lnSpc>
              <a:buClr>
                <a:srgbClr val="ad2e2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Ensure house would never be complete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457200" indent="-272880">
              <a:lnSpc>
                <a:spcPct val="100000"/>
              </a:lnSpc>
              <a:buClr>
                <a:srgbClr val="ad2e2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Trap spirits that fell through the floors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8240" y="129528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All building stopped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Left possessions to niece, Frances Marriot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Took 6 weeks to remove furniture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ouse auctioned to investor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Turned into a tourist attraction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428760" indent="-1756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428760" indent="-1756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28760" indent="-1756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625680" indent="-17568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625680" indent="-17568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428760" indent="-1756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28760" indent="-1756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4" name="Rectangle 3" descr=""/>
          <p:cNvPicPr/>
          <p:nvPr/>
        </p:nvPicPr>
        <p:blipFill>
          <a:blip r:embed="rId1"/>
          <a:stretch/>
        </p:blipFill>
        <p:spPr>
          <a:xfrm>
            <a:off x="298440" y="-237960"/>
            <a:ext cx="8474040" cy="1377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farm3.static.flickr.com/2382/2506934308_a8bc13e952_b.jpg"/>
          <p:cNvPicPr/>
          <p:nvPr/>
        </p:nvPicPr>
        <p:blipFill>
          <a:blip r:embed="rId2"/>
          <a:srcRect l="41629" t="17564" r="0" b="0"/>
          <a:stretch/>
        </p:blipFill>
        <p:spPr>
          <a:xfrm>
            <a:off x="5257800" y="968400"/>
            <a:ext cx="38862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240" y="129528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5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Many visiting psychics claim to see spirit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Numerous claims of ghost sighting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Employees/Visitor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ootstep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anging door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Mysterious voic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690840" indent="-194040">
              <a:lnSpc>
                <a:spcPct val="9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690840" indent="-194040">
              <a:lnSpc>
                <a:spcPct val="9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298440" y="-237960"/>
            <a:ext cx="8474040" cy="139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psychics.co.uk/imagesghosts/tony_sandoval.jpg"/>
          <p:cNvPicPr/>
          <p:nvPr/>
        </p:nvPicPr>
        <p:blipFill>
          <a:blip r:embed="rId2"/>
          <a:stretch/>
        </p:blipFill>
        <p:spPr>
          <a:xfrm>
            <a:off x="4114800" y="201924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28240" y="129528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indows bang so hard they shatter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Cold spot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trange moving light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oorknobs that move by themselve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Light orbs in picture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401040" indent="-16452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401040" indent="-16452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01040" indent="-16452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585000" indent="-16452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585000" indent="-16452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401040" indent="-16452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01040" indent="-16452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0" name="Rectangle 3" descr=""/>
          <p:cNvPicPr/>
          <p:nvPr/>
        </p:nvPicPr>
        <p:blipFill>
          <a:blip r:embed="rId1"/>
          <a:stretch/>
        </p:blipFill>
        <p:spPr>
          <a:xfrm>
            <a:off x="298440" y="-237960"/>
            <a:ext cx="8474040" cy="139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farm4.static.flickr.com/3064/2588795680_ec5a73d539.jpg?v=0"/>
          <p:cNvPicPr/>
          <p:nvPr/>
        </p:nvPicPr>
        <p:blipFill>
          <a:blip r:embed="rId2"/>
          <a:stretch/>
        </p:blipFill>
        <p:spPr>
          <a:xfrm>
            <a:off x="4267080" y="182880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28600" y="30492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arah was mentally unstable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uffered severe depression from the loss of her husband and daughter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as not in a good mental state when she went to a psychic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Lived as a recluse for 38 year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Lack of communication with people did not help her sanity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izarre events can be explained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Light orbs are reflections of flash off of dust particles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Cold spots are normal in a huge house with inconsistent heating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trange noises in a house where tours are given could be explained by other tourists making them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People want to see ghosts so badly, they interpret normal events as ghosts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There are so many windows, some are bound to break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715320" indent="-20088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715320" indent="-20088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tretch/>
        </p:blipFill>
        <p:spPr>
          <a:xfrm>
            <a:off x="298440" y="-390600"/>
            <a:ext cx="84740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5" descr=""/>
          <p:cNvPicPr/>
          <p:nvPr/>
        </p:nvPicPr>
        <p:blipFill>
          <a:blip r:embed="rId1"/>
          <a:stretch/>
        </p:blipFill>
        <p:spPr>
          <a:xfrm>
            <a:off x="298440" y="378000"/>
            <a:ext cx="84740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-36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indent="996145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illiam Wirt Winchester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orn  - June 22, 1837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Married Sarah Lockwood Pardee – September 30, 1862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ad one child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Annie Pardee Winchester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orn July 15, 1866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ied July 24, 1866, of marasmu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ather – Oliver Fisher Winchester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Manufactured and marketed the Winchester repeating rifle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ied on December 11, 1880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Ownership of company given to William Winchester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ied March 7, 1881 of tuberculosi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6" name="Rectangle 3" descr=""/>
          <p:cNvPicPr/>
          <p:nvPr/>
        </p:nvPicPr>
        <p:blipFill>
          <a:blip r:embed="rId1"/>
          <a:stretch/>
        </p:blipFill>
        <p:spPr>
          <a:xfrm>
            <a:off x="835200" y="-12600"/>
            <a:ext cx="7553160" cy="232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3.amazonaws.com/findagrave/photos/2001/222/paradeesarahloc.jpg"/>
          <p:cNvPicPr/>
          <p:nvPr/>
        </p:nvPicPr>
        <p:blipFill>
          <a:blip r:embed="rId2"/>
          <a:stretch/>
        </p:blipFill>
        <p:spPr>
          <a:xfrm>
            <a:off x="5899320" y="1905120"/>
            <a:ext cx="3244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360" y="137160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9650160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arah Lockwood Pardee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orn  in 1839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eath of only child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ecame deeply depressed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Never had any more children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ather-in-law and husband died within 3 months of each other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50% ownership of Winchester Company upon husband’s death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Income $1,000 a day (equal to $22,000 a day in 2008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ied September 5, 1922 – 83 years old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1"/>
          <a:stretch/>
        </p:blipFill>
        <p:spPr>
          <a:xfrm>
            <a:off x="835200" y="-12600"/>
            <a:ext cx="7553160" cy="2322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Winchesterframe.jpg"/>
          <p:cNvPicPr/>
          <p:nvPr/>
        </p:nvPicPr>
        <p:blipFill>
          <a:blip r:embed="rId2"/>
          <a:stretch/>
        </p:blipFill>
        <p:spPr>
          <a:xfrm>
            <a:off x="5327640" y="1752480"/>
            <a:ext cx="3740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hockwaveFlash1" descr=""/>
          <p:cNvPicPr/>
          <p:nvPr/>
        </p:nvPicPr>
        <p:blipFill>
          <a:blip r:embed="rId1"/>
          <a:stretch/>
        </p:blipFill>
        <p:spPr>
          <a:xfrm>
            <a:off x="914400" y="-15228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360" y="137160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9650160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inchester Mystery House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arah - convinced Winchester family was cursed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ent to a psychic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amily cursed by spirits killed by Winchester rifle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hould move west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uild house for herself and spirit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Construction should not stop or Sarah would die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Moved to San Jose, California from Connecticut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ought eight-room farmhouse on 162 acre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3" name="Rectangle 3" descr=""/>
          <p:cNvPicPr/>
          <p:nvPr/>
        </p:nvPicPr>
        <p:blipFill>
          <a:blip r:embed="rId1"/>
          <a:stretch/>
        </p:blipFill>
        <p:spPr>
          <a:xfrm>
            <a:off x="835200" y="-12600"/>
            <a:ext cx="7553160" cy="232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files3730.jpg"/>
          <p:cNvPicPr/>
          <p:nvPr/>
        </p:nvPicPr>
        <p:blipFill>
          <a:blip r:embed="rId2"/>
          <a:stretch/>
        </p:blipFill>
        <p:spPr>
          <a:xfrm>
            <a:off x="5029200" y="2209680"/>
            <a:ext cx="4775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5960" y="1447920"/>
            <a:ext cx="510516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4000"/>
          </a:bodyPr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ow did Sarah keep building constantly according to the psychic’s directions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ow big is the house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hat are some unique features of the house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hy did Sarah build the house the way she did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hat happened after the earthquake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hat happened to the house after Sarah died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Is the Winchester House haunted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468000" indent="-1918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2" marL="682560" indent="-19188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2" marL="682560" indent="-19188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468000" indent="-1918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lvl="1" marL="468000" indent="-1918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835200" y="-12600"/>
            <a:ext cx="7553160" cy="232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300_153971.jpg"/>
          <p:cNvPicPr/>
          <p:nvPr/>
        </p:nvPicPr>
        <p:blipFill>
          <a:blip r:embed="rId2"/>
          <a:stretch/>
        </p:blipFill>
        <p:spPr>
          <a:xfrm>
            <a:off x="5313240" y="2093760"/>
            <a:ext cx="38307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960" y="144756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3000"/>
          </a:bodyPr>
          <a:p>
            <a:pPr indent="861249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Plenty of money ($20 million dollar inheritance)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indent="861249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ired workers to build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full-time workers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24 hours a day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7 days a week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365 days a year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or the next 38 years!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61249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orkers caught not working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immediately fired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indent="861249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2" marL="674640" indent="-189720">
              <a:lnSpc>
                <a:spcPct val="9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2" marL="674640" indent="-189720">
              <a:lnSpc>
                <a:spcPct val="9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1"/>
          <a:stretch/>
        </p:blipFill>
        <p:spPr>
          <a:xfrm>
            <a:off x="835200" y="133200"/>
            <a:ext cx="7553160" cy="146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farm3.static.flickr.com/2252/2043036440_8222b3f99d_b.jpg"/>
          <p:cNvPicPr/>
          <p:nvPr/>
        </p:nvPicPr>
        <p:blipFill>
          <a:blip r:embed="rId2"/>
          <a:stretch/>
        </p:blipFill>
        <p:spPr>
          <a:xfrm>
            <a:off x="4915080" y="1219320"/>
            <a:ext cx="4228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5960" y="7621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5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Covers 4 acr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ad 7 stories (earthquake brought it down to 4 stories)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2 functional basement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60 room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skerville Old Face"/>
                <a:ea typeface="Arial"/>
              </a:rPr>
              <a:t>40 bedrooms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bathrooms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skerville Old Face"/>
                <a:ea typeface="Arial"/>
              </a:rPr>
              <a:t>5 kitchens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To paint entire house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 20,000 gallon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609480" indent="-17136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609480" indent="-17136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835200" y="146160"/>
            <a:ext cx="7553160" cy="96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www.strangetastic.com/photos/Deadroom_1.jpg"/>
          <p:cNvPicPr/>
          <p:nvPr/>
        </p:nvPicPr>
        <p:blipFill>
          <a:blip r:embed="rId2"/>
          <a:stretch/>
        </p:blipFill>
        <p:spPr>
          <a:xfrm>
            <a:off x="4800600" y="1219320"/>
            <a:ext cx="6629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5960" y="7621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69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3 elevator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47 fireplac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@1,257 window fram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@10,000 window pan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467 doorway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950 door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40 staircas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384480" indent="-1576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384480" indent="-1576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560880" indent="-15768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560880" indent="-15768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384480" indent="-1576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384480" indent="-1576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835200" y="146160"/>
            <a:ext cx="7553160" cy="963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www.dkimages.com/discover/previews/875/20174859.JPG"/>
          <p:cNvPicPr/>
          <p:nvPr/>
        </p:nvPicPr>
        <p:blipFill>
          <a:blip r:embed="rId2"/>
          <a:stretch/>
        </p:blipFill>
        <p:spPr>
          <a:xfrm>
            <a:off x="5110200" y="762120"/>
            <a:ext cx="3881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0:33:40Z</dcterms:created>
  <dc:creator>Andrea R. Riley</dc:creator>
  <dc:description/>
  <dc:language>en-US</dc:language>
  <cp:lastModifiedBy>Andrea R. Riley</cp:lastModifiedBy>
  <dcterms:modified xsi:type="dcterms:W3CDTF">2009-03-05T04:34:23Z</dcterms:modified>
  <cp:revision>13</cp:revision>
  <dc:subject/>
  <dc:title>Winchester Mystery House</dc:title>
</cp:coreProperties>
</file>